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57CC-F018-47CB-B166-212F4C5D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7E2-FD22-4378-975C-8A8004F8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801-94DC-4AEB-8E72-420CB97F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BD3-C675-486B-B37B-1AA7C76C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ACF-5A9D-4F23-8F0F-3B574B45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BB88-3351-434C-9828-96BADFBA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0BB-4261-4079-9DA2-B2F2E756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A14-9A8A-4B3C-9DED-026EB706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9DC-E9ED-46F5-AF93-5EEFA13F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6DA-6332-491F-BFFE-712E2F3F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F81-1191-44C5-B068-BF6B6469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8D8C-5721-4617-9A17-ECDC9741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0C9E-2908-4548-97F9-A2ED5CECE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a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Genetic Disorders to Adap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they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 in th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DNA M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r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produce desired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rotein is not produced, there can be interference with normal biological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DNA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15000" cy="4562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5106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 can also be a source of genetic variability in a spe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stic Fibrosis p3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ckle Cel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ph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ular Dystr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somy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19:48Z</dcterms:created>
  <dc:creator>Tera Linn</dc:creator>
  <dc:description/>
  <dc:language>en-US</dc:language>
  <cp:lastModifiedBy>Tera Linn</cp:lastModifiedBy>
  <dcterms:modified xsi:type="dcterms:W3CDTF">2011-12-06T21:08:57Z</dcterms:modified>
  <cp:revision>3</cp:revision>
  <dc:subject/>
  <dc:title>Genetic Disorders</dc:title>
</cp:coreProperties>
</file>